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F268-06E4-4B7A-A570-B54DA188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F11D-E8B7-4EE4-B1D2-E4AA7B5C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E64F-5AC6-40C9-810E-707D08FB9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1290-CDF9-4E4F-B73F-E27E0504F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9FC6-F440-4F59-B364-58D26313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7ACA-AF3B-4112-B7A1-B1F3E29F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557E-2B9A-49C0-AD31-261B977D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EAC6-FEDA-40C5-9343-222EC14E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B668-B8C0-4E44-B999-0FE67B82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751B-05BE-47A6-9D67-320AA878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0937-EDCD-466C-804C-4B8B09BF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21FC-96C3-422C-8667-4A745FFE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4C9D-204F-48E0-A124-8E38C3936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ome to the religious channe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we will be discussing Chinas 2 main religions  of Chi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ddhis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dhism is the beliefs of the teachings of the Buddha. The Buddha also gave some teachings in India. He also explained if you were in a happy state of mind you would it would result in good fortunes and great happiness. He also believed if you were in a negative state of mind suffering and bad things would ari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971800" y="40384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ois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oism was created in 100 C.E. It is still a major religion in China. Daoism is the belief of finding the “Way” or the dau of the universe.  Many people in the country still use this major religion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be back next week with the religion of Japan. We thank you for your contributions and information from viewers like yo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13:20:41Z</dcterms:created>
  <dc:creator>Administrator</dc:creator>
  <dc:description/>
  <dc:language>en-US</dc:language>
  <cp:lastModifiedBy>ebrown</cp:lastModifiedBy>
  <dcterms:modified xsi:type="dcterms:W3CDTF">2011-10-26T13:35:14Z</dcterms:modified>
  <cp:revision>4</cp:revision>
  <dc:subject/>
  <dc:title>Welcome to the religious channel </dc:title>
</cp:coreProperties>
</file>